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92-18E6-4ECE-B1B7-6774A2A7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4F7-6250-429C-B448-54C526D9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4A8-3E4D-4E3A-A5E4-5072A551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9A6-8E64-4DB3-9FF2-98F2187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4FB-21DC-4DBA-82E0-64D1003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2CE-25DA-44DA-90F5-C286A66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E5C-DEA2-46DE-9C9B-CFB0F07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9A8-3151-42A8-82FE-8DF56D3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CB6-3DE9-4D5C-86E5-B774280B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17C-ED86-4B18-8326-9BCFF39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A3-BF3B-4F15-9248-0CA61ED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27D-4829-4FD2-8493-CC5EB28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94CC-460A-49DC-88DE-6AFE76CB29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OSA E O BEIJA-F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1260360"/>
            <a:ext cx="5040360" cy="501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agartinha Tixa corria de um lado para outro, nervosa, suada e assus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viu Clarinha no jardim gri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laaaaaaaaaaaaaaaaaa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foi Tixa- Perguntou Cla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osa esta morrendo de tristeza, então vamos ver o que esta acontecendo com ela disse Cla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eni_vers-12" descr=""/>
          <p:cNvPicPr/>
          <p:nvPr/>
        </p:nvPicPr>
        <p:blipFill>
          <a:blip r:embed=""/>
          <a:stretch/>
        </p:blipFill>
        <p:spPr>
          <a:xfrm>
            <a:off x="7559640" y="540072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11960" y="2700360"/>
            <a:ext cx="20476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Rosa viu as duas foi logo diz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rinha por que ninguém liga pra m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lefante Trombão é um desajeitadão, só com um pisão me deixa toda amassada no ch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lefa05" descr=""/>
          <p:cNvPicPr/>
          <p:nvPr/>
        </p:nvPicPr>
        <p:blipFill>
          <a:blip r:embed=""/>
          <a:stretch/>
        </p:blipFill>
        <p:spPr>
          <a:xfrm>
            <a:off x="2716200" y="4056120"/>
            <a:ext cx="3629160" cy="2765520"/>
          </a:xfrm>
          <a:prstGeom prst="rect">
            <a:avLst/>
          </a:prstGeom>
          <a:ln w="0">
            <a:noFill/>
          </a:ln>
        </p:spPr>
      </p:pic>
      <p:pic>
        <p:nvPicPr>
          <p:cNvPr id="48" name="flor020" descr=""/>
          <p:cNvPicPr/>
          <p:nvPr/>
        </p:nvPicPr>
        <p:blipFill>
          <a:blip r:embed=""/>
          <a:stretch/>
        </p:blipFill>
        <p:spPr>
          <a:xfrm>
            <a:off x="6840360" y="4795920"/>
            <a:ext cx="252900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zebra08" descr=""/>
          <p:cNvPicPr/>
          <p:nvPr/>
        </p:nvPicPr>
        <p:blipFill>
          <a:blip r:embed=""/>
          <a:stretch/>
        </p:blipFill>
        <p:spPr>
          <a:xfrm>
            <a:off x="5580000" y="2100240"/>
            <a:ext cx="3600360" cy="437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480" y="138276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zebra Listrinha quer se enfeitar me colocando na sua gra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us espinhos são tantos, mas tantos que as crianças não gostam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e  a pena viver ass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flor085" descr=""/>
          <p:cNvPicPr/>
          <p:nvPr/>
        </p:nvPicPr>
        <p:blipFill>
          <a:blip r:embed=""/>
          <a:stretch/>
        </p:blipFill>
        <p:spPr>
          <a:xfrm>
            <a:off x="539640" y="540072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Clarinha ia responder, chegou um Beija- Flor muito elegante bem diferente do elefante, usava camisa de listrinha mas não era zebr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deou todas as flores de todas as cores, e pousou sobre a Rosa que era a mais linda de todas naquele jard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Beija-Flor  beijou a Rosa, que por ele ficou toda dengosa, morrendo de 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lor017" descr=""/>
          <p:cNvPicPr/>
          <p:nvPr/>
        </p:nvPicPr>
        <p:blipFill>
          <a:blip r:embed=""/>
          <a:stretch/>
        </p:blipFill>
        <p:spPr>
          <a:xfrm>
            <a:off x="3754440" y="5040360"/>
            <a:ext cx="218592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beija03" descr=""/>
          <p:cNvPicPr/>
          <p:nvPr/>
        </p:nvPicPr>
        <p:blipFill>
          <a:blip r:embed=""/>
          <a:stretch/>
        </p:blipFill>
        <p:spPr>
          <a:xfrm>
            <a:off x="5219640" y="468000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47:56Z</dcterms:created>
  <dc:creator/>
  <dc:description/>
  <dc:language>en-US</dc:language>
  <cp:lastModifiedBy/>
  <cp:revision>1</cp:revision>
  <dc:subject/>
  <dc:title/>
</cp:coreProperties>
</file>